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41C-0FDC-4249-A8C1-09AC708F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96C-4740-4BB4-962C-68133481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7CA-EB09-4E74-B50B-3B7E1547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94C-598E-416A-A249-B50E829B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E09-17F1-48BA-9946-96D4E6EF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00B-3E2C-42F5-9EFD-FF051AA9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55BA-F445-4849-827C-590EB485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309-381C-42B7-B714-03D64F33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00F-68FA-4606-AC21-98EEBC7B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3DC-1267-4129-8F2B-3E22A3CC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2C1-7377-475F-8EB4-995B1C37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FDAB-D19D-4044-940C-BB146E5F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CB5C-86CE-4C00-A943-FE6616A90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dip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en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á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d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gumen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nemato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op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6120" y="1557360"/>
            <a:ext cx="3292560" cy="4608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duce la adopción y el deseo de sa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úsqued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2490840" cy="4309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voca la incertidumbre sobre la identidad, y la búsqueda obsesiva hacia la ver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sul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yu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ácu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agon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i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yu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57720" y="2133720"/>
            <a:ext cx="3222720" cy="3252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uentr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búsqueda finaliza siendo perjudicado a el mismo, sientiendose así culp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744720" cy="360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unos referentes cinemato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uerda (19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hica terrible (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aja de musica (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mento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392280" cy="43099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2:01:18Z</dcterms:created>
  <dc:creator>PC</dc:creator>
  <dc:description/>
  <dc:language>en-US</dc:language>
  <cp:lastModifiedBy>PC</cp:lastModifiedBy>
  <dcterms:modified xsi:type="dcterms:W3CDTF">2010-04-17T13:55:57Z</dcterms:modified>
  <cp:revision>5</cp:revision>
  <dc:subject/>
  <dc:title>Diapositiva 1</dc:title>
</cp:coreProperties>
</file>